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8E7-77E6-40E5-B782-A3BAB3A4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CB5-CFFF-4C3B-8350-A034144E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C71-B7A8-4912-BFD1-3AD5DEF7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5F3-4182-4DA4-9D98-EB748518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9B6-094A-458D-8438-A0E8954E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4E4-A190-41BF-B444-CB0E4C2E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188-4F25-4D68-BE1B-96D9CBDF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D8F-02E5-49D2-BF4C-3C69067A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121-3D4F-41BA-8669-3432B7A7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6BFD-0B76-455B-AA48-692E43D2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14D-C2DB-415B-BB65-561680CA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214-67F6-4C9C-A397-8A8921BC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E492B-2ED8-4560-BFBE-50065A189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2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grpSp>
          <p:nvGrpSpPr>
            <p:cNvPr id="42" name="Group 4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43" name="Group 40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44" name="Group 25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45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46" name="Straight Arrow Connector 4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47" name="Straight Arrow Connector 5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48" name="Straight Connector 8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9" name="Straight Connector 11"/>
                    <p:cNvSpPr/>
                    <p:nvPr/>
                  </p:nvSpPr>
                  <p:spPr>
                    <a:xfrm>
                      <a:off x="2177280" y="2910600"/>
                      <a:ext cx="4243680" cy="2494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0" name="Straight Connector 12"/>
                    <p:cNvSpPr/>
                    <p:nvPr/>
                  </p:nvSpPr>
                  <p:spPr>
                    <a:xfrm>
                      <a:off x="2175840" y="4686480"/>
                      <a:ext cx="4525200" cy="71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1" name="Straight Connector 13"/>
                    <p:cNvSpPr/>
                    <p:nvPr/>
                  </p:nvSpPr>
                  <p:spPr>
                    <a:xfrm>
                      <a:off x="2175840" y="4105800"/>
                      <a:ext cx="2610360" cy="1313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2" name="TextBox 23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53" name="TextBox 2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54" name="TextBox 26"/>
                <p:cNvSpPr/>
                <p:nvPr/>
              </p:nvSpPr>
              <p:spPr>
                <a:xfrm>
                  <a:off x="2370960" y="1847880"/>
                  <a:ext cx="7898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river A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" name="TextBox 37"/>
              <p:cNvSpPr/>
              <p:nvPr/>
            </p:nvSpPr>
            <p:spPr>
              <a:xfrm>
                <a:off x="3792960" y="3566880"/>
                <a:ext cx="789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Driver B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" name="TextBox 38"/>
            <p:cNvSpPr/>
            <p:nvPr/>
          </p:nvSpPr>
          <p:spPr>
            <a:xfrm>
              <a:off x="2421720" y="402984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39"/>
            <p:cNvSpPr/>
            <p:nvPr/>
          </p:nvSpPr>
          <p:spPr>
            <a:xfrm>
              <a:off x="2432880" y="484632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TextBox 43"/>
          <p:cNvSpPr/>
          <p:nvPr/>
        </p:nvSpPr>
        <p:spPr>
          <a:xfrm>
            <a:off x="2624040" y="536400"/>
            <a:ext cx="48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an you Determine from this Grap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n you Determ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Questions Do You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Do You Want to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2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sp>
          <p:nvSpPr>
            <p:cNvPr id="62" name="Oval 13"/>
            <p:cNvSpPr/>
            <p:nvPr/>
          </p:nvSpPr>
          <p:spPr>
            <a:xfrm>
              <a:off x="2074320" y="1706760"/>
              <a:ext cx="153000" cy="15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3637800" y="4145400"/>
              <a:ext cx="153000" cy="155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Group 2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65" name="Group 19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66" name="Group 3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67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68" name="Straight Arrow Connector 7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69" name="Straight Arrow Connector 8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70" name="Straight Connector 9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1" name="TextBox 5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72" name="TextBox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73" name="TextBox 15"/>
                <p:cNvSpPr/>
                <p:nvPr/>
              </p:nvSpPr>
              <p:spPr>
                <a:xfrm>
                  <a:off x="2249280" y="1523160"/>
                  <a:ext cx="72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(0,42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TextBox 18"/>
                <p:cNvSpPr/>
                <p:nvPr/>
              </p:nvSpPr>
              <p:spPr>
                <a:xfrm>
                  <a:off x="3769920" y="3931560"/>
                  <a:ext cx="72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(4,12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5" name="TextBox 20"/>
              <p:cNvSpPr/>
              <p:nvPr/>
            </p:nvSpPr>
            <p:spPr>
              <a:xfrm>
                <a:off x="2737800" y="2525400"/>
                <a:ext cx="125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Driver A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6" name="TextBox 23"/>
          <p:cNvSpPr/>
          <p:nvPr/>
        </p:nvSpPr>
        <p:spPr>
          <a:xfrm>
            <a:off x="1947960" y="479520"/>
            <a:ext cx="42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can you determine given this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 ordered pairs to the graph that make sense to you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3"/>
          <p:cNvGrpSpPr/>
          <p:nvPr/>
        </p:nvGrpSpPr>
        <p:grpSpPr>
          <a:xfrm>
            <a:off x="1708200" y="1030320"/>
            <a:ext cx="5375520" cy="4743000"/>
            <a:chOff x="1708200" y="1030320"/>
            <a:chExt cx="5375520" cy="4743000"/>
          </a:xfrm>
        </p:grpSpPr>
        <p:grpSp>
          <p:nvGrpSpPr>
            <p:cNvPr id="79" name="Group 41"/>
            <p:cNvGrpSpPr/>
            <p:nvPr/>
          </p:nvGrpSpPr>
          <p:grpSpPr>
            <a:xfrm>
              <a:off x="1708200" y="1030320"/>
              <a:ext cx="5375520" cy="4743000"/>
              <a:chOff x="1708200" y="1030320"/>
              <a:chExt cx="5375520" cy="4743000"/>
            </a:xfrm>
          </p:grpSpPr>
          <p:grpSp>
            <p:nvGrpSpPr>
              <p:cNvPr id="80" name="Group 40"/>
              <p:cNvGrpSpPr/>
              <p:nvPr/>
            </p:nvGrpSpPr>
            <p:grpSpPr>
              <a:xfrm>
                <a:off x="1708200" y="1030320"/>
                <a:ext cx="5375520" cy="4743000"/>
                <a:chOff x="1708200" y="1030320"/>
                <a:chExt cx="5375520" cy="4743000"/>
              </a:xfrm>
            </p:grpSpPr>
            <p:grpSp>
              <p:nvGrpSpPr>
                <p:cNvPr id="81" name="Group 25"/>
                <p:cNvGrpSpPr/>
                <p:nvPr/>
              </p:nvGrpSpPr>
              <p:grpSpPr>
                <a:xfrm>
                  <a:off x="1708200" y="1030320"/>
                  <a:ext cx="5375520" cy="4743000"/>
                  <a:chOff x="1708200" y="1030320"/>
                  <a:chExt cx="5375520" cy="4743000"/>
                </a:xfrm>
              </p:grpSpPr>
              <p:grpSp>
                <p:nvGrpSpPr>
                  <p:cNvPr id="82" name="Group 22"/>
                  <p:cNvGrpSpPr/>
                  <p:nvPr/>
                </p:nvGrpSpPr>
                <p:grpSpPr>
                  <a:xfrm>
                    <a:off x="2024640" y="1261800"/>
                    <a:ext cx="5059080" cy="4309920"/>
                    <a:chOff x="2024640" y="1261800"/>
                    <a:chExt cx="5059080" cy="4309920"/>
                  </a:xfrm>
                </p:grpSpPr>
                <p:cxnSp>
                  <p:nvCxnSpPr>
                    <p:cNvPr id="83" name="Straight Arrow Connector 14"/>
                    <p:cNvCxnSpPr/>
                    <p:nvPr/>
                  </p:nvCxnSpPr>
                  <p:spPr>
                    <a:xfrm flipV="1">
                      <a:off x="2024640" y="5404320"/>
                      <a:ext cx="5059440" cy="1476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cxnSp>
                  <p:nvCxnSpPr>
                    <p:cNvPr id="84" name="Straight Arrow Connector 5"/>
                    <p:cNvCxnSpPr/>
                    <p:nvPr/>
                  </p:nvCxnSpPr>
                  <p:spPr>
                    <a:xfrm flipV="1">
                      <a:off x="2175840" y="1261800"/>
                      <a:ext cx="2160" cy="43102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85" name="Straight Connector 16"/>
                    <p:cNvSpPr/>
                    <p:nvPr/>
                  </p:nvSpPr>
                  <p:spPr>
                    <a:xfrm>
                      <a:off x="2175840" y="1853640"/>
                      <a:ext cx="2296800" cy="35514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6" name="Straight Connector 17"/>
                    <p:cNvSpPr/>
                    <p:nvPr/>
                  </p:nvSpPr>
                  <p:spPr>
                    <a:xfrm>
                      <a:off x="2177280" y="2910600"/>
                      <a:ext cx="4243680" cy="2494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7" name="Straight Connector 18"/>
                    <p:cNvSpPr/>
                    <p:nvPr/>
                  </p:nvSpPr>
                  <p:spPr>
                    <a:xfrm>
                      <a:off x="2175840" y="4686480"/>
                      <a:ext cx="4525200" cy="7185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8" name="Straight Connector 19"/>
                    <p:cNvSpPr/>
                    <p:nvPr/>
                  </p:nvSpPr>
                  <p:spPr>
                    <a:xfrm>
                      <a:off x="2175840" y="4105800"/>
                      <a:ext cx="2610360" cy="1313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9" name="TextBox 12"/>
                  <p:cNvSpPr/>
                  <p:nvPr/>
                </p:nvSpPr>
                <p:spPr>
                  <a:xfrm>
                    <a:off x="3419640" y="5405040"/>
                    <a:ext cx="3663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Time in Hours Since Vehicles Starte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90" name="TextBox 1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708200" y="1030320"/>
                    <a:ext cx="4744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91" name="TextBox 10"/>
                <p:cNvSpPr/>
                <p:nvPr/>
              </p:nvSpPr>
              <p:spPr>
                <a:xfrm>
                  <a:off x="2370960" y="1847880"/>
                  <a:ext cx="78984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Calibri"/>
                    </a:rPr>
                    <a:t>Driver A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2" name="TextBox 8"/>
              <p:cNvSpPr/>
              <p:nvPr/>
            </p:nvSpPr>
            <p:spPr>
              <a:xfrm>
                <a:off x="3792960" y="3566880"/>
                <a:ext cx="789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Driver B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TextBox 5"/>
            <p:cNvSpPr/>
            <p:nvPr/>
          </p:nvSpPr>
          <p:spPr>
            <a:xfrm>
              <a:off x="2421720" y="402984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2432880" y="4846320"/>
              <a:ext cx="789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river 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ize What you K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ct on Your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did you start in your think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re did you get stuc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id you get unstuc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are some general ideas about graphs do you think you understand now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do you know you understand those ide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d you learn any knew math skills while thinking about this proble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 Your Learning- What was Your Pa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3880" y="1397160"/>
          <a:ext cx="6319800" cy="3768480"/>
        </p:xfrm>
        <a:graphic>
          <a:graphicData uri="http://schemas.openxmlformats.org/drawingml/2006/table">
            <a:tbl>
              <a:tblPr/>
              <a:tblGrid>
                <a:gridCol w="1263600"/>
                <a:gridCol w="1263960"/>
                <a:gridCol w="1265040"/>
                <a:gridCol w="1263600"/>
                <a:gridCol w="126360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4"/>
          <p:cNvSpPr/>
          <p:nvPr/>
        </p:nvSpPr>
        <p:spPr>
          <a:xfrm>
            <a:off x="4067280" y="5173560"/>
            <a:ext cx="411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ol in Development – C.S. Walker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17:55:16Z</dcterms:created>
  <dc:creator>Carren  Walker</dc:creator>
  <dc:description/>
  <dc:language>en-US</dc:language>
  <cp:lastModifiedBy>Carren  Walker</cp:lastModifiedBy>
  <dcterms:modified xsi:type="dcterms:W3CDTF">2011-07-23T19:29:05Z</dcterms:modified>
  <cp:revision>2</cp:revision>
  <dc:subject/>
  <dc:title>Slide 1</dc:title>
</cp:coreProperties>
</file>